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0A5-B8EC-47A8-AB5D-CEFAEE77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F5E-2437-40E2-B3F9-8546CB5E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18B-5743-40D6-99BE-D777537A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573-EB1E-458D-AD11-BBD34A58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ABB-DDE0-4CEA-B483-AC21CEF1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567-C963-4CC4-AC36-9994940C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502-0E4D-4D4D-9042-2E4A7693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F20-38C1-48BC-8E10-F11C0F27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486-9B83-4AFF-ACE4-58755B0E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7D4-FB56-4D4A-A090-0EAC8C3D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F5E-08D6-4521-86BC-8C883767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23E-8A24-40F6-AB63-99BD7D15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1749-958E-4E37-A606-FB95D0F2A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39640" y="404640"/>
            <a:ext cx="8059680" cy="290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0a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Monotype Corsiva"/>
              </a:rPr>
              <a:t>В мире профессий</a:t>
            </a:r>
            <a:endParaRPr b="0" lang="en-US" sz="1800" spc="1" strike="noStrike">
              <a:ln w="9360">
                <a:solidFill>
                  <a:srgbClr val="7030a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388764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4356000" y="4581360"/>
            <a:ext cx="457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онова Елена Павл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ный руководитель 5 Б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Фразеологические обор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тричь под одну гребенк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Шить на живую нитк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рать на прице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Ждать у моря погоды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гущать краск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грать первую скрипк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186920" y="549360"/>
            <a:ext cx="61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ессий много в мире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х невозможно пере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годня многие ну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интересны, и ва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ты скорее подрас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ессией овладев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райся в деле первым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людям пользу принос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324000" y="5013360"/>
            <a:ext cx="82296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42920" y="4005360"/>
            <a:ext cx="7058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ни это всегда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аботе использован матери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festival.1september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mages.yandex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40464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У каждого дела запах особый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P8304932_0.tmp"/>
          <p:cNvPicPr/>
          <p:nvPr/>
        </p:nvPicPr>
        <p:blipFill>
          <a:blip r:embed="rId1"/>
          <a:stretch/>
        </p:blipFill>
        <p:spPr>
          <a:xfrm>
            <a:off x="5126040" y="1335240"/>
            <a:ext cx="4024440" cy="2651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2"/>
          <a:stretch/>
        </p:blipFill>
        <p:spPr>
          <a:xfrm>
            <a:off x="-6480" y="1262160"/>
            <a:ext cx="2140200" cy="2657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3"/>
          <a:stretch/>
        </p:blipFill>
        <p:spPr>
          <a:xfrm>
            <a:off x="-6480" y="3352680"/>
            <a:ext cx="2395800" cy="35118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P8304203_0.tmp"/>
          <p:cNvPicPr/>
          <p:nvPr/>
        </p:nvPicPr>
        <p:blipFill>
          <a:blip r:embed="rId4"/>
          <a:stretch/>
        </p:blipFill>
        <p:spPr>
          <a:xfrm>
            <a:off x="2548080" y="1695600"/>
            <a:ext cx="2408040" cy="354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5"/>
          <a:stretch/>
        </p:blipFill>
        <p:spPr>
          <a:xfrm>
            <a:off x="5608800" y="3998880"/>
            <a:ext cx="3541680" cy="2865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6"/>
          <a:stretch/>
        </p:blipFill>
        <p:spPr>
          <a:xfrm>
            <a:off x="3773520" y="5267160"/>
            <a:ext cx="2316240" cy="159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7"/>
          <a:stretch/>
        </p:blipFill>
        <p:spPr>
          <a:xfrm>
            <a:off x="2475000" y="5413320"/>
            <a:ext cx="143172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Профессия</a:t>
            </a: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это основной род зан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труд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5" descr="P8302936_0.tmp"/>
          <p:cNvPicPr/>
          <p:nvPr/>
        </p:nvPicPr>
        <p:blipFill>
          <a:blip r:embed="rId1"/>
          <a:stretch/>
        </p:blipFill>
        <p:spPr>
          <a:xfrm>
            <a:off x="1182600" y="2341440"/>
            <a:ext cx="6345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Блок-схема: альтернативный процесс 3"/>
          <p:cNvSpPr/>
          <p:nvPr/>
        </p:nvSpPr>
        <p:spPr>
          <a:xfrm>
            <a:off x="2484360" y="404640"/>
            <a:ext cx="3816360" cy="936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рофе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низ 4"/>
          <p:cNvSpPr/>
          <p:nvPr/>
        </p:nvSpPr>
        <p:spPr>
          <a:xfrm>
            <a:off x="4284720" y="1628640"/>
            <a:ext cx="358560" cy="93672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низ 5"/>
          <p:cNvSpPr/>
          <p:nvPr/>
        </p:nvSpPr>
        <p:spPr>
          <a:xfrm flipH="1" rot="19603200">
            <a:off x="6462360" y="1487520"/>
            <a:ext cx="289080" cy="93780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альтернативный процесс 9"/>
          <p:cNvSpPr/>
          <p:nvPr/>
        </p:nvSpPr>
        <p:spPr>
          <a:xfrm>
            <a:off x="684360" y="2924280"/>
            <a:ext cx="1942920" cy="9363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ловек  -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альтернативный процесс 10"/>
          <p:cNvSpPr/>
          <p:nvPr/>
        </p:nvSpPr>
        <p:spPr>
          <a:xfrm>
            <a:off x="3419640" y="2924280"/>
            <a:ext cx="1944360" cy="9363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ловек -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альтернативный процесс 11"/>
          <p:cNvSpPr/>
          <p:nvPr/>
        </p:nvSpPr>
        <p:spPr>
          <a:xfrm>
            <a:off x="6156360" y="2924280"/>
            <a:ext cx="1871640" cy="100944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ловек - тех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альтернативный процесс 12"/>
          <p:cNvSpPr/>
          <p:nvPr/>
        </p:nvSpPr>
        <p:spPr>
          <a:xfrm>
            <a:off x="1547640" y="4724280"/>
            <a:ext cx="2737080" cy="1152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ловек – художественный об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альтернативный процесс 13"/>
          <p:cNvSpPr/>
          <p:nvPr/>
        </p:nvSpPr>
        <p:spPr>
          <a:xfrm>
            <a:off x="4859280" y="4724280"/>
            <a:ext cx="2737080" cy="1152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ловек – знаков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6"/>
          <p:cNvSpPr/>
          <p:nvPr/>
        </p:nvSpPr>
        <p:spPr>
          <a:xfrm rot="1876800">
            <a:off x="2066400" y="1568160"/>
            <a:ext cx="319320" cy="97776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17"/>
          <p:cNvSpPr/>
          <p:nvPr/>
        </p:nvSpPr>
        <p:spPr>
          <a:xfrm>
            <a:off x="2916360" y="1773360"/>
            <a:ext cx="360360" cy="27352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18"/>
          <p:cNvSpPr/>
          <p:nvPr/>
        </p:nvSpPr>
        <p:spPr>
          <a:xfrm>
            <a:off x="5580000" y="1773360"/>
            <a:ext cx="360360" cy="27352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Угадай професс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ошка, шприц, лека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Зеркало, ножницы, расческа.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Набор игл, ткань, нитки.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Стопка ученических тетрадей, указка, классный журнал.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орабль, бескозырка, море.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Шланг, вода, костю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Зеркало, ножницы, расчес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исть, валик, ведро с краско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Поварешка, колпак белый, кастрюл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Мяч, кеды, форм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орова, ведро с молок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раски, кисть, картин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Автобус, билет, деньг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2" descr="P8303607_0.tmp"/>
          <p:cNvPicPr/>
          <p:nvPr/>
        </p:nvPicPr>
        <p:blipFill>
          <a:blip r:embed="rId1"/>
          <a:stretch/>
        </p:blipFill>
        <p:spPr>
          <a:xfrm>
            <a:off x="6227640" y="4365720"/>
            <a:ext cx="27417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Замени одним сло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первым узнает новости, а потом рассказывает их на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обучает животны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Летчик, который управляет космическим корабле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выполняет трюки вместо киноактер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много путешествует, находит горные породы, минерал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Врач, который лечит звере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чинит и изготавливает час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Люди, которые занимаются науко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создает компьютерные игры и программы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занимается изучением погоды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Третий нужный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Зубы лечит: хирург, стоматолог, медс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орову доит: доярка, пастух, двор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ом строит: маляр, строитель, слес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нег метёт: шофёр, лётчик, двор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етей учит: библиотекарь, нянечка, уч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Рубашки шьёт: швея, сапожник, часовщ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храняет границу: тракторист, пограничник, почталь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обывает уголь: художник, водитель, шахт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Назови професс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Если мужчина – портной, то женщина – 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Если мужчина ткач, то женщину назовём -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Мужчина художник, а женщина –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н спортсмен, она –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н актёр, она –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5052960" y="3789360"/>
            <a:ext cx="40910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Кто так говори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Кому добавки?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Какой зуб вас беспокои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Большое спасибо за покупку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Вам посылка, распишитесь»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В мою сеть попало много рыб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Тема сегодняшнего урока «Полезные ископаемы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Присаживайтесь, как будем стричься?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9:01:33Z</dcterms:created>
  <dc:creator>Пользователь</dc:creator>
  <dc:description/>
  <dc:language>en-US</dc:language>
  <cp:lastModifiedBy>Пользователь</cp:lastModifiedBy>
  <dcterms:modified xsi:type="dcterms:W3CDTF">2011-05-23T18:50:38Z</dcterms:modified>
  <cp:revision>17</cp:revision>
  <dc:subject/>
  <dc:title>«В мире профессий….» (Внеклассное мероприятие в 5 классе)</dc:title>
</cp:coreProperties>
</file>